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9C1-237C-44EC-B360-347D689B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D11-FDC3-4DB5-B5DC-74C3BDF2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156-0CD1-4AD1-8188-F21CE292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2B2-8735-4B34-8F5B-4BBA36C4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87A-0FC6-4D00-AB97-B0767826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0ED-B538-4A4C-A6FA-5ABFFD91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8DA-E8BE-4EE7-BFD3-8CF308A9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B40-2366-45AD-B9B5-EB5BB53D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8BA-519F-4AA3-93D3-748BA3E6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4E9-BFE0-4BE2-87DC-8B97439A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D08-7CC6-4A24-8DEE-6A3B122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B2F-1654-4810-889A-1E28560C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7662-77CD-432C-BAF8-96CA0266B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rave little to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Coley Col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orded Soun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有一只勇敢的面包机，他去远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blt.jpg"/>
          <p:cNvPicPr/>
          <p:nvPr/>
        </p:nvPicPr>
        <p:blipFill>
          <a:blip r:embed="rId1"/>
          <a:stretch/>
        </p:blipFill>
        <p:spPr>
          <a:xfrm>
            <a:off x="465120" y="1911240"/>
            <a:ext cx="4022640" cy="390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as a brave little toa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ent on a h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被一个坏人追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brave-little-toaster.jpg"/>
          <p:cNvPicPr/>
          <p:nvPr/>
        </p:nvPicPr>
        <p:blipFill>
          <a:blip r:embed="rId1"/>
          <a:stretch/>
        </p:blipFill>
        <p:spPr>
          <a:xfrm>
            <a:off x="1047600" y="27925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got chased by a bad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面包机发现原来是毯子开的玩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angrytoaster.jpg"/>
          <p:cNvPicPr/>
          <p:nvPr/>
        </p:nvPicPr>
        <p:blipFill>
          <a:blip r:embed="rId1"/>
          <a:stretch/>
        </p:blipFill>
        <p:spPr>
          <a:xfrm>
            <a:off x="457200" y="2336760"/>
            <a:ext cx="4038480" cy="3052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aster learned it was a trick by blan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跟灯一起计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lampo.jpg"/>
          <p:cNvPicPr/>
          <p:nvPr/>
        </p:nvPicPr>
        <p:blipFill>
          <a:blip r:embed="rId1"/>
          <a:stretch/>
        </p:blipFill>
        <p:spPr>
          <a:xfrm>
            <a:off x="914400" y="2286000"/>
            <a:ext cx="312408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made a plan with l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将用吸尘器报复毯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4" descr="tapferekleinetoaster01.jpg"/>
          <p:cNvPicPr/>
          <p:nvPr/>
        </p:nvPicPr>
        <p:blipFill>
          <a:blip r:embed="rId1"/>
          <a:stretch/>
        </p:blipFill>
        <p:spPr>
          <a:xfrm>
            <a:off x="533520" y="2057400"/>
            <a:ext cx="3200400" cy="2819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as going to trick blanket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vacu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把它带到山谷去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ey took him to the cany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ess with h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4" descr="canyon.jpg"/>
          <p:cNvPicPr/>
          <p:nvPr/>
        </p:nvPicPr>
        <p:blipFill>
          <a:blip r:embed="rId1"/>
          <a:stretch/>
        </p:blipFill>
        <p:spPr>
          <a:xfrm>
            <a:off x="5357880" y="2362320"/>
            <a:ext cx="261936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Recorded Sound" descr=""/>
          <p:cNvPicPr/>
          <p:nvPr/>
        </p:nvPicPr>
        <p:blipFill>
          <a:blip r:embed="rId2"/>
          <a:stretch/>
        </p:blipFill>
        <p:spPr>
          <a:xfrm>
            <a:off x="33526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是个很好笑的玩笑，他们都笑了，和好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a funny j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ll laugh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y were all friends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ww.jpg"/>
          <p:cNvPicPr/>
          <p:nvPr/>
        </p:nvPicPr>
        <p:blipFill>
          <a:blip r:embed="rId1"/>
          <a:stretch/>
        </p:blipFill>
        <p:spPr>
          <a:xfrm>
            <a:off x="0" y="1828800"/>
            <a:ext cx="4610160" cy="3162240"/>
          </a:xfrm>
          <a:prstGeom prst="rect">
            <a:avLst/>
          </a:prstGeom>
          <a:ln w="0">
            <a:noFill/>
          </a:ln>
        </p:spPr>
      </p:pic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17:24Z</dcterms:created>
  <dc:creator>itsuser</dc:creator>
  <dc:description/>
  <dc:language>en-US</dc:language>
  <cp:lastModifiedBy>itsuser</cp:lastModifiedBy>
  <dcterms:modified xsi:type="dcterms:W3CDTF">2009-04-23T15:55:23Z</dcterms:modified>
  <cp:revision>5</cp:revision>
  <dc:subject/>
  <dc:title>The brave little toaster</dc:title>
</cp:coreProperties>
</file>